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90F-A268-4F35-BB3B-0EB4CFC1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925-2471-4E24-BAD9-16BD924E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247-77B1-4C0E-A95D-86DFF0FD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3DB-8C77-4828-9F32-0E8B33A2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B7D-6F31-419B-9CFE-DEB3012F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20C-4C81-4600-B97E-D409FD6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8EB-C968-4888-AB0E-3BE947CD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E64-B5C5-4915-BCB1-59B72DE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DA3-1036-4DF7-83BF-CB39F8D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BAB-E44F-4E74-A11B-078110B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DAE-3B15-4C82-9097-5DDC757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30C-B139-4B07-8A8D-6C6A316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3FB13-852D-496E-B7FD-1889061184FA}" type="datetime">
              <a:rPr b="0" lang="en-US" sz="1200" spc="-1" strike="noStrike">
                <a:solidFill>
                  <a:srgbClr val="898989"/>
                </a:solidFill>
                <a:latin typeface="Lucida Sans Unicode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C3728-E19B-42D9-80BE-D54F5AB44C87}" type="slidenum">
              <a:rPr b="0" lang="en-US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2560" y="195120"/>
            <a:ext cx="7778880" cy="84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23080"/>
            <a:ext cx="46080" cy="20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898989"/>
              </a:solidFill>
              <a:latin typeface="Lucida Sans Unicode"/>
            </a:endParaRPr>
          </a:p>
        </p:txBody>
      </p:sp>
      <p:pic>
        <p:nvPicPr>
          <p:cNvPr id="43" name="Diagram 3" descr=""/>
          <p:cNvPicPr/>
          <p:nvPr/>
        </p:nvPicPr>
        <p:blipFill>
          <a:blip r:embed="rId3"/>
          <a:stretch/>
        </p:blipFill>
        <p:spPr>
          <a:xfrm>
            <a:off x="1438200" y="2444760"/>
            <a:ext cx="6546960" cy="3187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4"/>
          <a:stretch/>
        </p:blipFill>
        <p:spPr>
          <a:xfrm>
            <a:off x="1878120" y="993600"/>
            <a:ext cx="5278320" cy="84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ciulogo.png"/>
          <p:cNvPicPr/>
          <p:nvPr/>
        </p:nvPicPr>
        <p:blipFill>
          <a:blip r:embed="rId5"/>
          <a:stretch/>
        </p:blipFill>
        <p:spPr>
          <a:xfrm>
            <a:off x="264960" y="201600"/>
            <a:ext cx="1106640" cy="798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1882800" y="5380200"/>
            <a:ext cx="40194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Cost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$275 (18 hours of Act 48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$250 early bird pricing prior to April 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Location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ESC, 455 Boot Road Downingtown PA 193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Sans Unicode"/>
              </a:rPr>
              <a:t>Register Now: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www.cciu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264960" y="1000080"/>
            <a:ext cx="84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vision of Teaching &amp;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749600" y="1843200"/>
            <a:ext cx="5870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Featuring presentations by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Mahoney,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Thom Stecher, Christian Stecher, Dr. Kim Maguire,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rew Danilchick,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Dr. Rina Vassallo, Dr. Stefani Hite, Foster Schucker, Dave Catell, Peggy Maher, and many more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4960" y="2443320"/>
            <a:ext cx="178776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ducator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Administ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District Te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Teachers of Gif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Teachers of Special 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Guidance Counsel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Administ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oa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xplosion 1 11"/>
          <p:cNvSpPr/>
          <p:nvPr/>
        </p:nvSpPr>
        <p:spPr>
          <a:xfrm>
            <a:off x="6089760" y="5195880"/>
            <a:ext cx="2368440" cy="1662120"/>
          </a:xfrm>
          <a:prstGeom prst="irregularSeal1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591240" y="5581800"/>
            <a:ext cx="1389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Bring 5 people from your district &amp; 1 administrator attends for FRE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Up Arrow 14"/>
          <p:cNvSpPr/>
          <p:nvPr/>
        </p:nvSpPr>
        <p:spPr>
          <a:xfrm>
            <a:off x="2495520" y="4489560"/>
            <a:ext cx="1824120" cy="581040"/>
          </a:xfrm>
          <a:custGeom>
            <a:avLst/>
            <a:gdLst>
              <a:gd name="textAreaLeft" fmla="*/ 401400 w 1824120"/>
              <a:gd name="textAreaRight" fmla="*/ 1350000 w 1824120"/>
              <a:gd name="textAreaTop" fmla="*/ 77760 h 581040"/>
              <a:gd name="textAreaBottom" fmla="*/ 50328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10" hR="21600" stAng="10800000" swAng="-5400000"/>
                <a:lnTo>
                  <a:pt x="11230" y="21600"/>
                </a:lnTo>
                <a:arcTo wR="9510" hR="21600" stAng="5400000" swAng="-3576642"/>
                <a:lnTo>
                  <a:pt x="21298" y="5400"/>
                </a:lnTo>
                <a:lnTo>
                  <a:pt x="19880" y="0"/>
                </a:lnTo>
                <a:lnTo>
                  <a:pt x="17858" y="5400"/>
                </a:lnTo>
                <a:lnTo>
                  <a:pt x="18718" y="5400"/>
                </a:lnTo>
                <a:arcTo wR="9510" hR="21600" stAng="1823358" swAng="3439279"/>
                <a:lnTo>
                  <a:pt x="10370" y="21511"/>
                </a:lnTo>
                <a:arcTo wR="9510" hR="21600" stAng="5537363" swAng="5262637"/>
                <a:close/>
              </a:path>
              <a:path fill="darkenLess" w="21600" h="21600">
                <a:moveTo>
                  <a:pt x="0" y="0"/>
                </a:moveTo>
                <a:arcTo wR="9510" hR="21600" stAng="10800000" swAng="-5400000"/>
                <a:lnTo>
                  <a:pt x="11230" y="21600"/>
                </a:lnTo>
                <a:arcTo wR="9510" hR="21600" stAng="5400000" swAng="137363"/>
                <a:lnTo>
                  <a:pt x="10370" y="21511"/>
                </a:lnTo>
                <a:arcTo wR="9510" hR="21600" stAng="5537363" swAng="5262637"/>
                <a:close/>
              </a:path>
            </a:pathLst>
          </a:cu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rved Down Arrow 15"/>
          <p:cNvSpPr/>
          <p:nvPr/>
        </p:nvSpPr>
        <p:spPr>
          <a:xfrm>
            <a:off x="5357880" y="2513160"/>
            <a:ext cx="1609560" cy="465120"/>
          </a:xfrm>
          <a:custGeom>
            <a:avLst/>
            <a:gdLst>
              <a:gd name="textAreaLeft" fmla="*/ 358560 w 1609560"/>
              <a:gd name="textAreaRight" fmla="*/ 1192680 w 1609560"/>
              <a:gd name="textAreaTop" fmla="*/ 62280 h 465120"/>
              <a:gd name="textAreaBottom" fmla="*/ 4028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30" hR="21600" stAng="10800000" swAng="5400000"/>
                <a:lnTo>
                  <a:pt x="11191" y="0"/>
                </a:lnTo>
                <a:arcTo wR="9630" hR="21600" stAng="-5400000" swAng="3595318"/>
                <a:lnTo>
                  <a:pt x="21294" y="16200"/>
                </a:lnTo>
                <a:lnTo>
                  <a:pt x="20040" y="21600"/>
                </a:lnTo>
                <a:lnTo>
                  <a:pt x="18173" y="16200"/>
                </a:lnTo>
                <a:lnTo>
                  <a:pt x="18953" y="16200"/>
                </a:lnTo>
                <a:arcTo wR="9630" hR="21600" stAng="-1804682" swAng="-3470742"/>
                <a:lnTo>
                  <a:pt x="10410" y="71"/>
                </a:lnTo>
                <a:arcTo wR="9630" hR="21600" stAng="-5524576" swAng="-5275424"/>
                <a:close/>
              </a:path>
              <a:path fill="darkenLess" w="21600" h="21600">
                <a:moveTo>
                  <a:pt x="0" y="21600"/>
                </a:moveTo>
                <a:arcTo wR="9630" hR="21600" stAng="10800000" swAng="5400000"/>
                <a:lnTo>
                  <a:pt x="9630" y="0"/>
                </a:lnTo>
                <a:arcTo wR="9630" hR="21600" stAng="-5400000" swAng="124576"/>
                <a:lnTo>
                  <a:pt x="10410" y="71"/>
                </a:lnTo>
                <a:arcTo wR="9630" hR="21600" stAng="-5524576" swAng="-5275424"/>
                <a:close/>
              </a:path>
            </a:pathLst>
          </a:cu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4:31:03Z</dcterms:created>
  <dc:creator>CCIU</dc:creator>
  <dc:description/>
  <dc:language>en-US</dc:language>
  <cp:lastModifiedBy>CCIU</cp:lastModifiedBy>
  <cp:lastPrinted>2010-02-17T21:01:52Z</cp:lastPrinted>
  <dcterms:modified xsi:type="dcterms:W3CDTF">2010-02-19T16:05:15Z</dcterms:modified>
  <cp:revision>11</cp:revision>
  <dc:subject/>
  <dc:title>Slide 1</dc:title>
</cp:coreProperties>
</file>